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B9C-A700-43DD-85D1-51BF18F6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0C3-BCB0-4420-A925-D5EB42AB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A51-7744-4D5A-9E6D-3C0AA92C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B52-FADA-4464-8582-0C1BD146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3E3-7061-4317-8D4A-72DBE01B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F19-CF1D-4A16-A93D-26344A63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1BA-073F-40C4-BDC0-96714EDD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8C3-DD60-40D9-9177-1D2F1182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487-506A-4C9A-9E0B-D1E2422E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C46-2D5E-4C78-8D49-0FC73D4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421-448F-4F6A-8011-6CA8AF59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D77-76C3-4A0F-9204-D10AF2B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4D5F-A7DB-4116-9E4C-1F62BDE3E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5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Special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5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371600" y="16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Special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27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23040" y="28512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5486400" y="4587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35"/>
          <p:cNvGrpSpPr/>
          <p:nvPr/>
        </p:nvGrpSpPr>
        <p:grpSpPr>
          <a:xfrm>
            <a:off x="1506600" y="3505320"/>
            <a:ext cx="4137120" cy="1874520"/>
            <a:chOff x="1506600" y="3505320"/>
            <a:chExt cx="4137120" cy="1874520"/>
          </a:xfrm>
        </p:grpSpPr>
        <p:sp>
          <p:nvSpPr>
            <p:cNvPr id="150" name="Text Box 10"/>
            <p:cNvSpPr/>
            <p:nvPr/>
          </p:nvSpPr>
          <p:spPr>
            <a:xfrm>
              <a:off x="1506600" y="451944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294080" y="456732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792080" y="45687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654440" y="46213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2438280" y="455292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494160" y="46260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2476440" y="350532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27"/>
            <p:cNvSpPr/>
            <p:nvPr/>
          </p:nvSpPr>
          <p:spPr>
            <a:xfrm rot="544200">
              <a:off x="3881160" y="4952520"/>
              <a:ext cx="609480" cy="38124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28"/>
            <p:cNvSpPr/>
            <p:nvPr/>
          </p:nvSpPr>
          <p:spPr>
            <a:xfrm>
              <a:off x="2438280" y="5029200"/>
              <a:ext cx="83844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 flipV="1">
              <a:off x="1766880" y="396216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30"/>
            <p:cNvSpPr/>
            <p:nvPr/>
          </p:nvSpPr>
          <p:spPr>
            <a:xfrm>
              <a:off x="2362320" y="39625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32"/>
            <p:cNvSpPr/>
            <p:nvPr/>
          </p:nvSpPr>
          <p:spPr>
            <a:xfrm>
              <a:off x="4114800" y="3962520"/>
              <a:ext cx="8380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33"/>
            <p:cNvSpPr/>
            <p:nvPr/>
          </p:nvSpPr>
          <p:spPr>
            <a:xfrm>
              <a:off x="4114800" y="3962520"/>
              <a:ext cx="2286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69960" y="175248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21160" y="26668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18880" y="5410080"/>
            <a:ext cx="18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58160" y="3200400"/>
            <a:ext cx="16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530280" y="3773520"/>
            <a:ext cx="2743200" cy="1334520"/>
            <a:chOff x="530280" y="3773520"/>
            <a:chExt cx="2743200" cy="1334520"/>
          </a:xfrm>
        </p:grpSpPr>
        <p:sp>
          <p:nvSpPr>
            <p:cNvPr id="169" name="Text Box 8"/>
            <p:cNvSpPr/>
            <p:nvPr/>
          </p:nvSpPr>
          <p:spPr>
            <a:xfrm>
              <a:off x="532440" y="3773520"/>
              <a:ext cx="26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Arial"/>
                </a:rPr>
                <a:t>Factors of 4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3333ff"/>
                  </a:solidFill>
                  <a:latin typeface="Arial"/>
                </a:rPr>
                <a:t>Su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>
              <a:off x="2359080" y="38862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530280" y="419112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837000" y="4219560"/>
              <a:ext cx="19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5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837000" y="4648320"/>
              <a:ext cx="19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  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27"/>
            <p:cNvSpPr/>
            <p:nvPr/>
          </p:nvSpPr>
          <p:spPr>
            <a:xfrm>
              <a:off x="2582640" y="408636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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28"/>
            <p:cNvSpPr/>
            <p:nvPr/>
          </p:nvSpPr>
          <p:spPr>
            <a:xfrm>
              <a:off x="2590920" y="4449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80880" y="16765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21240" y="2852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486400" y="441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2089080" y="350532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1"/>
          <p:cNvGrpSpPr/>
          <p:nvPr/>
        </p:nvGrpSpPr>
        <p:grpSpPr>
          <a:xfrm>
            <a:off x="1201680" y="3886200"/>
            <a:ext cx="4208400" cy="1341000"/>
            <a:chOff x="1201680" y="3886200"/>
            <a:chExt cx="4208400" cy="1341000"/>
          </a:xfrm>
        </p:grpSpPr>
        <p:sp>
          <p:nvSpPr>
            <p:cNvPr id="182" name="Text Box 8"/>
            <p:cNvSpPr/>
            <p:nvPr/>
          </p:nvSpPr>
          <p:spPr>
            <a:xfrm>
              <a:off x="1201680" y="434340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2133720" y="43434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7)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3913200" y="4390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1487520" y="4392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4451400" y="44704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3187440" y="44323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 rot="544200">
              <a:off x="3657600" y="4800240"/>
              <a:ext cx="60948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2209680" y="4829040"/>
              <a:ext cx="83844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 flipV="1">
              <a:off x="137160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>
              <a:off x="1967040" y="3886200"/>
              <a:ext cx="152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419112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4191120" y="3886200"/>
              <a:ext cx="759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5"/>
          <p:cNvSpPr/>
          <p:nvPr/>
        </p:nvSpPr>
        <p:spPr>
          <a:xfrm>
            <a:off x="669960" y="175248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932400" y="265896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rul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569480" y="320040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1, b = 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762120" y="393696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7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967040" y="4724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4570560" y="390204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570560" y="47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–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317240" y="3195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380880" y="16765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08760" y="26668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337040" y="3276720"/>
            <a:ext cx="27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+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32"/>
          <p:cNvGrpSpPr/>
          <p:nvPr/>
        </p:nvGrpSpPr>
        <p:grpSpPr>
          <a:xfrm>
            <a:off x="645120" y="3657240"/>
            <a:ext cx="4612320" cy="1067040"/>
            <a:chOff x="645120" y="3657240"/>
            <a:chExt cx="4612320" cy="1067040"/>
          </a:xfrm>
        </p:grpSpPr>
        <p:sp>
          <p:nvSpPr>
            <p:cNvPr id="208" name="Text Box 15"/>
            <p:cNvSpPr/>
            <p:nvPr/>
          </p:nvSpPr>
          <p:spPr>
            <a:xfrm>
              <a:off x="645120" y="396252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Text Box 16"/>
            <p:cNvSpPr/>
            <p:nvPr/>
          </p:nvSpPr>
          <p:spPr>
            <a:xfrm>
              <a:off x="1635480" y="3962520"/>
              <a:ext cx="21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)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3710880" y="4010040"/>
              <a:ext cx="15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8"/>
            <p:cNvSpPr/>
            <p:nvPr/>
          </p:nvSpPr>
          <p:spPr>
            <a:xfrm flipH="1" flipV="1">
              <a:off x="4391640" y="3657240"/>
              <a:ext cx="2361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 flipH="1">
              <a:off x="4233960" y="3657600"/>
              <a:ext cx="157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>
              <a:off x="3603960" y="4483080"/>
              <a:ext cx="393480" cy="24120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21"/>
            <p:cNvSpPr/>
            <p:nvPr/>
          </p:nvSpPr>
          <p:spPr>
            <a:xfrm>
              <a:off x="769680" y="3733920"/>
              <a:ext cx="62964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144"/>
                  </a:moveTo>
                  <a:cubicBezTo>
                    <a:pt x="64" y="72"/>
                    <a:pt x="128" y="0"/>
                    <a:pt x="192" y="0"/>
                  </a:cubicBezTo>
                  <a:cubicBezTo>
                    <a:pt x="256" y="0"/>
                    <a:pt x="352" y="120"/>
                    <a:pt x="384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22"/>
            <p:cNvSpPr/>
            <p:nvPr/>
          </p:nvSpPr>
          <p:spPr>
            <a:xfrm>
              <a:off x="1635480" y="4419720"/>
              <a:ext cx="86616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1095120" y="403848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266000" y="408924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2960280" y="40514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Text Box 26"/>
          <p:cNvSpPr/>
          <p:nvPr/>
        </p:nvSpPr>
        <p:spPr>
          <a:xfrm>
            <a:off x="5813280" y="40244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2(3x)(4) ≠ – 6x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Group 33"/>
          <p:cNvGrpSpPr/>
          <p:nvPr/>
        </p:nvGrpSpPr>
        <p:grpSpPr>
          <a:xfrm>
            <a:off x="685800" y="5060880"/>
            <a:ext cx="7864560" cy="825480"/>
            <a:chOff x="685800" y="5060880"/>
            <a:chExt cx="7864560" cy="825480"/>
          </a:xfrm>
        </p:grpSpPr>
        <p:sp>
          <p:nvSpPr>
            <p:cNvPr id="221" name="Text Box 28"/>
            <p:cNvSpPr/>
            <p:nvPr/>
          </p:nvSpPr>
          <p:spPr>
            <a:xfrm>
              <a:off x="685800" y="5060880"/>
              <a:ext cx="786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 is not a perfect-square trinomial beca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≠ 2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30"/>
            <p:cNvSpPr/>
            <p:nvPr/>
          </p:nvSpPr>
          <p:spPr>
            <a:xfrm>
              <a:off x="3821040" y="550404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0" y="1676520"/>
            <a:ext cx="934920" cy="1218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990720" y="1569960"/>
            <a:ext cx="7543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ectangular piece of cloth must be cut to make a tablecloth. The area needed is (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9) i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dimensions of the cloth are of the for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d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c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whole numbers. Find an expression for the perimeter of the cloth. Find the perimeter w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1 inch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0" y="98964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4"/>
          <p:cNvGrpSpPr/>
          <p:nvPr/>
        </p:nvGrpSpPr>
        <p:grpSpPr>
          <a:xfrm>
            <a:off x="941400" y="1600200"/>
            <a:ext cx="4736160" cy="762120"/>
            <a:chOff x="941400" y="1600200"/>
            <a:chExt cx="4736160" cy="762120"/>
          </a:xfrm>
        </p:grpSpPr>
        <p:grpSp>
          <p:nvGrpSpPr>
            <p:cNvPr id="227" name="Group 5"/>
            <p:cNvGrpSpPr/>
            <p:nvPr/>
          </p:nvGrpSpPr>
          <p:grpSpPr>
            <a:xfrm>
              <a:off x="941400" y="1600200"/>
              <a:ext cx="761760" cy="762120"/>
              <a:chOff x="941400" y="1600200"/>
              <a:chExt cx="761760" cy="762120"/>
            </a:xfrm>
          </p:grpSpPr>
          <p:pic>
            <p:nvPicPr>
              <p:cNvPr id="22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94140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7"/>
              <p:cNvSpPr/>
              <p:nvPr/>
            </p:nvSpPr>
            <p:spPr>
              <a:xfrm>
                <a:off x="106272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Text Box 8"/>
            <p:cNvSpPr/>
            <p:nvPr/>
          </p:nvSpPr>
          <p:spPr>
            <a:xfrm>
              <a:off x="101808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1" name="Text Box 9"/>
          <p:cNvSpPr/>
          <p:nvPr/>
        </p:nvSpPr>
        <p:spPr>
          <a:xfrm>
            <a:off x="1219320" y="2362320"/>
            <a:ext cx="71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an expression for the perimeter of the cloth and the value of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1448640" y="361332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1508040" y="429912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blecloth is a square with are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)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1509840" y="536580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the tablecloth is in the for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 +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whole number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38160" y="98964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10"/>
          <p:cNvGrpSpPr/>
          <p:nvPr/>
        </p:nvGrpSpPr>
        <p:grpSpPr>
          <a:xfrm>
            <a:off x="914400" y="1600200"/>
            <a:ext cx="2788920" cy="647640"/>
            <a:chOff x="914400" y="1600200"/>
            <a:chExt cx="2788920" cy="647640"/>
          </a:xfrm>
        </p:grpSpPr>
        <p:grpSp>
          <p:nvGrpSpPr>
            <p:cNvPr id="237" name="Group 11"/>
            <p:cNvGrpSpPr/>
            <p:nvPr/>
          </p:nvGrpSpPr>
          <p:grpSpPr>
            <a:xfrm>
              <a:off x="914400" y="1600200"/>
              <a:ext cx="571320" cy="647640"/>
              <a:chOff x="914400" y="1600200"/>
              <a:chExt cx="571320" cy="647640"/>
            </a:xfrm>
          </p:grpSpPr>
          <p:pic>
            <p:nvPicPr>
              <p:cNvPr id="238" name="Pictur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Text Box 13"/>
              <p:cNvSpPr/>
              <p:nvPr/>
            </p:nvSpPr>
            <p:spPr>
              <a:xfrm>
                <a:off x="103752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166932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1" name="Text Box 15"/>
          <p:cNvSpPr/>
          <p:nvPr/>
        </p:nvSpPr>
        <p:spPr>
          <a:xfrm>
            <a:off x="1143000" y="251460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mula for the area of a square i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(side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8160" y="98964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143000" y="3505320"/>
            <a:ext cx="698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to find the side length of the tablecloth. Write a formula for the perimeter of the park, and evaluate the expression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838080" y="1600200"/>
            <a:ext cx="1791000" cy="704880"/>
            <a:chOff x="838080" y="1600200"/>
            <a:chExt cx="1791000" cy="704880"/>
          </a:xfrm>
        </p:grpSpPr>
        <p:sp>
          <p:nvSpPr>
            <p:cNvPr id="245" name="Text Box 7"/>
            <p:cNvSpPr/>
            <p:nvPr/>
          </p:nvSpPr>
          <p:spPr>
            <a:xfrm>
              <a:off x="1645200" y="17229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6" name="Group 8"/>
            <p:cNvGrpSpPr/>
            <p:nvPr/>
          </p:nvGrpSpPr>
          <p:grpSpPr>
            <a:xfrm>
              <a:off x="838080" y="1600200"/>
              <a:ext cx="704880" cy="704880"/>
              <a:chOff x="838080" y="1600200"/>
              <a:chExt cx="704880" cy="704880"/>
            </a:xfrm>
          </p:grpSpPr>
          <p:pic>
            <p:nvPicPr>
              <p:cNvPr id="247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6002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 Box 10"/>
              <p:cNvSpPr/>
              <p:nvPr/>
            </p:nvSpPr>
            <p:spPr>
              <a:xfrm>
                <a:off x="1042560" y="1718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9" name="Rectangle 11"/>
          <p:cNvSpPr/>
          <p:nvPr/>
        </p:nvSpPr>
        <p:spPr>
          <a:xfrm>
            <a:off x="1346760" y="2514600"/>
            <a:ext cx="21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505520" y="32004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3) 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278720" y="387036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1642320" y="449568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=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4636080" y="24382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4x, b = 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637160" y="2971800"/>
            <a:ext cx="34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4637160" y="38862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1143000" y="5181480"/>
            <a:ext cx="75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the tablecloth is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in. and 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) 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6"/>
          <p:cNvSpPr/>
          <p:nvPr/>
        </p:nvSpPr>
        <p:spPr>
          <a:xfrm>
            <a:off x="898560" y="184464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formula for the perimeter of the tableclot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066680" y="28875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1599840" y="3505320"/>
            <a:ext cx="16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1549080" y="4038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914400" y="474012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pression for the perimeter of the tablecloth in inches is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3603600" y="274320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ormula for the perimeter of a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604320" y="35053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the side length for 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3605760" y="40384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stribute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1295280"/>
            <a:ext cx="845820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termine whether the following are perfect squares. If so, fine the square root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4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213600" y="520956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7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1818720" y="51814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42"/>
          <p:cNvSpPr/>
          <p:nvPr/>
        </p:nvSpPr>
        <p:spPr>
          <a:xfrm>
            <a:off x="4432680" y="361008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6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46"/>
          <p:cNvSpPr/>
          <p:nvPr/>
        </p:nvSpPr>
        <p:spPr>
          <a:xfrm>
            <a:off x="2041200" y="4676040"/>
            <a:ext cx="12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48"/>
          <p:cNvSpPr/>
          <p:nvPr/>
        </p:nvSpPr>
        <p:spPr>
          <a:xfrm>
            <a:off x="579960" y="416232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5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49"/>
          <p:cNvSpPr/>
          <p:nvPr/>
        </p:nvSpPr>
        <p:spPr>
          <a:xfrm>
            <a:off x="4506480" y="416232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1"/>
          <p:cNvSpPr/>
          <p:nvPr/>
        </p:nvSpPr>
        <p:spPr>
          <a:xfrm>
            <a:off x="611640" y="46623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52"/>
          <p:cNvSpPr/>
          <p:nvPr/>
        </p:nvSpPr>
        <p:spPr>
          <a:xfrm>
            <a:off x="4514760" y="470520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53"/>
          <p:cNvSpPr/>
          <p:nvPr/>
        </p:nvSpPr>
        <p:spPr>
          <a:xfrm>
            <a:off x="622800" y="519588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544280" y="519588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6231240" y="4676760"/>
            <a:ext cx="14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2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60"/>
          <p:cNvSpPr/>
          <p:nvPr/>
        </p:nvSpPr>
        <p:spPr>
          <a:xfrm>
            <a:off x="1986480" y="362412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8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61"/>
          <p:cNvSpPr/>
          <p:nvPr/>
        </p:nvSpPr>
        <p:spPr>
          <a:xfrm>
            <a:off x="1894320" y="41482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62"/>
          <p:cNvSpPr/>
          <p:nvPr/>
        </p:nvSpPr>
        <p:spPr>
          <a:xfrm>
            <a:off x="6195240" y="416232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63"/>
          <p:cNvSpPr/>
          <p:nvPr/>
        </p:nvSpPr>
        <p:spPr>
          <a:xfrm>
            <a:off x="6177600" y="356220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es; 6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6"/>
          <p:cNvSpPr/>
          <p:nvPr/>
        </p:nvSpPr>
        <p:spPr>
          <a:xfrm>
            <a:off x="1374120" y="193680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658160" y="266688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801800" y="335268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88560" y="39942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082520" y="466416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 in. the perimeter of the tablecloth is 164 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064120" y="33526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11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5"/>
          <p:cNvSpPr/>
          <p:nvPr/>
        </p:nvSpPr>
        <p:spPr>
          <a:xfrm>
            <a:off x="1402200" y="167544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6"/>
          <p:cNvGrpSpPr/>
          <p:nvPr/>
        </p:nvGrpSpPr>
        <p:grpSpPr>
          <a:xfrm>
            <a:off x="609480" y="1523880"/>
            <a:ext cx="838440" cy="676440"/>
            <a:chOff x="609480" y="1523880"/>
            <a:chExt cx="838440" cy="676440"/>
          </a:xfrm>
        </p:grpSpPr>
        <p:pic>
          <p:nvPicPr>
            <p:cNvPr id="276" name="Picture 7" descr=""/>
            <p:cNvPicPr/>
            <p:nvPr/>
          </p:nvPicPr>
          <p:blipFill>
            <a:blip r:embed="rId1"/>
            <a:stretch/>
          </p:blipFill>
          <p:spPr>
            <a:xfrm>
              <a:off x="714240" y="152388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8"/>
            <p:cNvSpPr/>
            <p:nvPr/>
          </p:nvSpPr>
          <p:spPr>
            <a:xfrm>
              <a:off x="609480" y="1675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8" name="Text Box 9"/>
          <p:cNvSpPr/>
          <p:nvPr/>
        </p:nvSpPr>
        <p:spPr>
          <a:xfrm>
            <a:off x="1071720" y="2165400"/>
            <a:ext cx="715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square with a perimeter of 164, the side length is                 and the area is 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81 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1496520" y="3962520"/>
            <a:ext cx="48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2801160" y="4495680"/>
            <a:ext cx="28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2500200" y="51055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64 +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2" name="Group 17"/>
          <p:cNvGrpSpPr/>
          <p:nvPr/>
        </p:nvGrpSpPr>
        <p:grpSpPr>
          <a:xfrm>
            <a:off x="2548440" y="5516640"/>
            <a:ext cx="1301400" cy="581760"/>
            <a:chOff x="2548440" y="5516640"/>
            <a:chExt cx="1301400" cy="581760"/>
          </a:xfrm>
        </p:grpSpPr>
        <p:sp>
          <p:nvSpPr>
            <p:cNvPr id="283" name="Text Box 15"/>
            <p:cNvSpPr/>
            <p:nvPr/>
          </p:nvSpPr>
          <p:spPr>
            <a:xfrm>
              <a:off x="2548440" y="56386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81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Text Box 16"/>
            <p:cNvSpPr/>
            <p:nvPr/>
          </p:nvSpPr>
          <p:spPr>
            <a:xfrm>
              <a:off x="3240000" y="55166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6" name="Group 21"/>
          <p:cNvGrpSpPr/>
          <p:nvPr/>
        </p:nvGrpSpPr>
        <p:grpSpPr>
          <a:xfrm>
            <a:off x="3251160" y="2603520"/>
            <a:ext cx="1746360" cy="685800"/>
            <a:chOff x="3251160" y="2603520"/>
            <a:chExt cx="1746360" cy="685800"/>
          </a:xfrm>
        </p:grpSpPr>
        <p:pic>
          <p:nvPicPr>
            <p:cNvPr id="287" name="Picture 10" descr="1"/>
            <p:cNvPicPr/>
            <p:nvPr/>
          </p:nvPicPr>
          <p:blipFill>
            <a:blip r:embed="rId2"/>
            <a:stretch/>
          </p:blipFill>
          <p:spPr>
            <a:xfrm>
              <a:off x="3251160" y="2603520"/>
              <a:ext cx="16192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0"/>
            <p:cNvSpPr/>
            <p:nvPr/>
          </p:nvSpPr>
          <p:spPr>
            <a:xfrm>
              <a:off x="4768920" y="273060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457200" y="1676520"/>
            <a:ext cx="7924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ompany produces square sheets of aluminum, each of which has an area of (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)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side length of each sheet is in the for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x + d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whole numbers. Find an expression in term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for the perimeter of a sheet. Find the perimeter w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2" name="Group 5"/>
          <p:cNvGrpSpPr/>
          <p:nvPr/>
        </p:nvGrpSpPr>
        <p:grpSpPr>
          <a:xfrm>
            <a:off x="865080" y="1676520"/>
            <a:ext cx="4736160" cy="761760"/>
            <a:chOff x="865080" y="1676520"/>
            <a:chExt cx="4736160" cy="761760"/>
          </a:xfrm>
        </p:grpSpPr>
        <p:grpSp>
          <p:nvGrpSpPr>
            <p:cNvPr id="293" name="Group 6"/>
            <p:cNvGrpSpPr/>
            <p:nvPr/>
          </p:nvGrpSpPr>
          <p:grpSpPr>
            <a:xfrm>
              <a:off x="865080" y="1676520"/>
              <a:ext cx="761760" cy="761760"/>
              <a:chOff x="865080" y="1676520"/>
              <a:chExt cx="761760" cy="761760"/>
            </a:xfrm>
          </p:grpSpPr>
          <p:pic>
            <p:nvPicPr>
              <p:cNvPr id="294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76520"/>
                <a:ext cx="7617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Text Box 8"/>
              <p:cNvSpPr/>
              <p:nvPr/>
            </p:nvSpPr>
            <p:spPr>
              <a:xfrm>
                <a:off x="986400" y="169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6" name="Text Box 9"/>
            <p:cNvSpPr/>
            <p:nvPr/>
          </p:nvSpPr>
          <p:spPr>
            <a:xfrm>
              <a:off x="941760" y="17510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Text Box 10"/>
          <p:cNvSpPr/>
          <p:nvPr/>
        </p:nvSpPr>
        <p:spPr>
          <a:xfrm>
            <a:off x="1066680" y="24382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an expression for the perimeter of a sheet and the value of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312200" y="374976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1219320" y="4375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heet is a square with area 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219320" y="4968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a sheet is in the for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 +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whole number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7"/>
          <p:cNvGrpSpPr/>
          <p:nvPr/>
        </p:nvGrpSpPr>
        <p:grpSpPr>
          <a:xfrm>
            <a:off x="838080" y="1571760"/>
            <a:ext cx="2789640" cy="647640"/>
            <a:chOff x="838080" y="1571760"/>
            <a:chExt cx="2789640" cy="647640"/>
          </a:xfrm>
        </p:grpSpPr>
        <p:grpSp>
          <p:nvGrpSpPr>
            <p:cNvPr id="302" name="Group 8"/>
            <p:cNvGrpSpPr/>
            <p:nvPr/>
          </p:nvGrpSpPr>
          <p:grpSpPr>
            <a:xfrm>
              <a:off x="838080" y="1571760"/>
              <a:ext cx="571680" cy="647640"/>
              <a:chOff x="838080" y="1571760"/>
              <a:chExt cx="571680" cy="647640"/>
            </a:xfrm>
          </p:grpSpPr>
          <p:pic>
            <p:nvPicPr>
              <p:cNvPr id="303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717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0"/>
              <p:cNvSpPr/>
              <p:nvPr/>
            </p:nvSpPr>
            <p:spPr>
              <a:xfrm>
                <a:off x="961560" y="1603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5" name="Text Box 11"/>
            <p:cNvSpPr/>
            <p:nvPr/>
          </p:nvSpPr>
          <p:spPr>
            <a:xfrm>
              <a:off x="1593720" y="16178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6" name="Text Box 12"/>
          <p:cNvSpPr/>
          <p:nvPr/>
        </p:nvSpPr>
        <p:spPr>
          <a:xfrm>
            <a:off x="1219320" y="225756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mula for the area of a square i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(side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1241280" y="3324240"/>
            <a:ext cx="69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to find the side length of a sheet. Write a formula for the perimeter of the park, and evaluate the expression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5"/>
          <p:cNvGrpSpPr/>
          <p:nvPr/>
        </p:nvGrpSpPr>
        <p:grpSpPr>
          <a:xfrm>
            <a:off x="673200" y="1523880"/>
            <a:ext cx="1791000" cy="704880"/>
            <a:chOff x="673200" y="1523880"/>
            <a:chExt cx="1791000" cy="704880"/>
          </a:xfrm>
        </p:grpSpPr>
        <p:sp>
          <p:nvSpPr>
            <p:cNvPr id="310" name="Text Box 6"/>
            <p:cNvSpPr/>
            <p:nvPr/>
          </p:nvSpPr>
          <p:spPr>
            <a:xfrm>
              <a:off x="148032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1" name="Group 7"/>
            <p:cNvGrpSpPr/>
            <p:nvPr/>
          </p:nvGrpSpPr>
          <p:grpSpPr>
            <a:xfrm>
              <a:off x="673200" y="1523880"/>
              <a:ext cx="704880" cy="704880"/>
              <a:chOff x="673200" y="1523880"/>
              <a:chExt cx="704880" cy="704880"/>
            </a:xfrm>
          </p:grpSpPr>
          <p:pic>
            <p:nvPicPr>
              <p:cNvPr id="312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320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Text Box 9"/>
              <p:cNvSpPr/>
              <p:nvPr/>
            </p:nvSpPr>
            <p:spPr>
              <a:xfrm>
                <a:off x="87768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14" name="Rectangle 10"/>
          <p:cNvSpPr/>
          <p:nvPr/>
        </p:nvSpPr>
        <p:spPr>
          <a:xfrm>
            <a:off x="1735560" y="23036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152360" y="28368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) +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971720" y="350532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1505880" y="4284720"/>
            <a:ext cx="41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=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4266360" y="23623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3x, b =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4267080" y="2895480"/>
            <a:ext cx="51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–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267080" y="3581280"/>
            <a:ext cx="45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685800" y="5105520"/>
            <a:ext cx="75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de length of a sheet is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 and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)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5"/>
          <p:cNvSpPr/>
          <p:nvPr/>
        </p:nvSpPr>
        <p:spPr>
          <a:xfrm>
            <a:off x="838080" y="160020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formula for the perimeter of the aluminum shee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143000" y="28875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713600" y="3579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52760" y="41133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990720" y="496872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pression for the perimeter of the sheet in meters is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3679920" y="274320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formula for the perimeter of a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3680640" y="358128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the side length for 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682080" y="41529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stribute 4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1440720" y="17524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761480" y="24811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878120" y="3168720"/>
            <a:ext cx="28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954800" y="38098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1158840" y="44798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 m. the perimeter of the sheet is 40 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5140080" y="31687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3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1446840" y="159768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609480" y="1446120"/>
            <a:ext cx="838440" cy="676440"/>
            <a:chOff x="609480" y="1446120"/>
            <a:chExt cx="838440" cy="676440"/>
          </a:xfrm>
        </p:grpSpPr>
        <p:pic>
          <p:nvPicPr>
            <p:cNvPr id="341" name="Picture 6" descr=""/>
            <p:cNvPicPr/>
            <p:nvPr/>
          </p:nvPicPr>
          <p:blipFill>
            <a:blip r:embed="rId1"/>
            <a:stretch/>
          </p:blipFill>
          <p:spPr>
            <a:xfrm>
              <a:off x="714240" y="1446120"/>
              <a:ext cx="676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7"/>
            <p:cNvSpPr/>
            <p:nvPr/>
          </p:nvSpPr>
          <p:spPr>
            <a:xfrm>
              <a:off x="609480" y="15976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3" name="Rectangle 10"/>
          <p:cNvSpPr/>
          <p:nvPr/>
        </p:nvSpPr>
        <p:spPr>
          <a:xfrm>
            <a:off x="1850400" y="350352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3158640" y="403704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860560" y="46483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 + 18 +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3308040" y="5135400"/>
            <a:ext cx="1311120" cy="582120"/>
            <a:chOff x="3308040" y="5135400"/>
            <a:chExt cx="1311120" cy="582120"/>
          </a:xfrm>
        </p:grpSpPr>
        <p:sp>
          <p:nvSpPr>
            <p:cNvPr id="347" name="Text Box 14"/>
            <p:cNvSpPr/>
            <p:nvPr/>
          </p:nvSpPr>
          <p:spPr>
            <a:xfrm>
              <a:off x="3308040" y="52578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Text Box 15"/>
            <p:cNvSpPr/>
            <p:nvPr/>
          </p:nvSpPr>
          <p:spPr>
            <a:xfrm>
              <a:off x="4009680" y="5135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9" name="Group 20"/>
          <p:cNvGrpSpPr/>
          <p:nvPr/>
        </p:nvGrpSpPr>
        <p:grpSpPr>
          <a:xfrm>
            <a:off x="533520" y="2131920"/>
            <a:ext cx="8457840" cy="1104840"/>
            <a:chOff x="533520" y="2131920"/>
            <a:chExt cx="8457840" cy="1104840"/>
          </a:xfrm>
        </p:grpSpPr>
        <p:sp>
          <p:nvSpPr>
            <p:cNvPr id="350" name="Text Box 8"/>
            <p:cNvSpPr/>
            <p:nvPr/>
          </p:nvSpPr>
          <p:spPr>
            <a:xfrm>
              <a:off x="533520" y="2131920"/>
              <a:ext cx="84578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or a square with a perimeter of 40, the side length is            m and the area is 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00 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51" name="Picture 16" descr="1"/>
            <p:cNvPicPr/>
            <p:nvPr/>
          </p:nvPicPr>
          <p:blipFill>
            <a:blip r:embed="rId2"/>
            <a:stretch/>
          </p:blipFill>
          <p:spPr>
            <a:xfrm>
              <a:off x="1003320" y="2550960"/>
              <a:ext cx="1135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5"/>
          <p:cNvSpPr/>
          <p:nvPr/>
        </p:nvSpPr>
        <p:spPr>
          <a:xfrm>
            <a:off x="609480" y="12510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hapter 7 you learned that the difference of two squares has the for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difference of two squares can be written as the produc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+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 You can use this pattern to factor some polynomial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962640" y="289548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lynomial is a difference of two squares if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685800" y="3505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two terms, one subtracted from the other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685800" y="441972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terms are perfect square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7" name="Group 20"/>
          <p:cNvGrpSpPr/>
          <p:nvPr/>
        </p:nvGrpSpPr>
        <p:grpSpPr>
          <a:xfrm>
            <a:off x="3429000" y="4876920"/>
            <a:ext cx="2568600" cy="1112040"/>
            <a:chOff x="3429000" y="4876920"/>
            <a:chExt cx="2568600" cy="1112040"/>
          </a:xfrm>
        </p:grpSpPr>
        <p:sp>
          <p:nvSpPr>
            <p:cNvPr id="358" name="Text Box 10"/>
            <p:cNvSpPr/>
            <p:nvPr/>
          </p:nvSpPr>
          <p:spPr>
            <a:xfrm>
              <a:off x="4108680" y="4876920"/>
              <a:ext cx="11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59" name="Group 15"/>
            <p:cNvGrpSpPr/>
            <p:nvPr/>
          </p:nvGrpSpPr>
          <p:grpSpPr>
            <a:xfrm>
              <a:off x="3429000" y="5529240"/>
              <a:ext cx="2568600" cy="459720"/>
              <a:chOff x="3429000" y="5529240"/>
              <a:chExt cx="2568600" cy="459720"/>
            </a:xfrm>
          </p:grpSpPr>
          <p:sp>
            <p:nvSpPr>
              <p:cNvPr id="360" name="Text Box 11"/>
              <p:cNvSpPr/>
              <p:nvPr/>
            </p:nvSpPr>
            <p:spPr>
              <a:xfrm>
                <a:off x="3429000" y="5529240"/>
                <a:ext cx="256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2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  2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3   3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Text Box 13"/>
              <p:cNvSpPr/>
              <p:nvPr/>
            </p:nvSpPr>
            <p:spPr>
              <a:xfrm>
                <a:off x="5156280" y="557352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ff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Text Box 14"/>
              <p:cNvSpPr/>
              <p:nvPr/>
            </p:nvSpPr>
            <p:spPr>
              <a:xfrm>
                <a:off x="3952800" y="557352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3" name="Line 16"/>
            <p:cNvSpPr/>
            <p:nvPr/>
          </p:nvSpPr>
          <p:spPr>
            <a:xfrm>
              <a:off x="4245120" y="530064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Line 17"/>
            <p:cNvSpPr/>
            <p:nvPr/>
          </p:nvSpPr>
          <p:spPr>
            <a:xfrm flipH="1">
              <a:off x="3864240" y="530064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Line 18"/>
            <p:cNvSpPr/>
            <p:nvPr/>
          </p:nvSpPr>
          <p:spPr>
            <a:xfrm flipH="1">
              <a:off x="5006880" y="5300640"/>
              <a:ext cx="759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5083200" y="530064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4"/>
          <p:cNvSpPr/>
          <p:nvPr/>
        </p:nvSpPr>
        <p:spPr>
          <a:xfrm>
            <a:off x="380880" y="1905120"/>
            <a:ext cx="8458200" cy="1447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perfect-square trinomials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the difference of two squares.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81120" y="2690640"/>
            <a:ext cx="7781760" cy="14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5"/>
          <p:cNvGrpSpPr/>
          <p:nvPr/>
        </p:nvGrpSpPr>
        <p:grpSpPr>
          <a:xfrm>
            <a:off x="798480" y="2008800"/>
            <a:ext cx="7888320" cy="2015280"/>
            <a:chOff x="798480" y="2008800"/>
            <a:chExt cx="7888320" cy="2015280"/>
          </a:xfrm>
        </p:grpSpPr>
        <p:sp>
          <p:nvSpPr>
            <p:cNvPr id="369" name="Text Box 6"/>
            <p:cNvSpPr/>
            <p:nvPr/>
          </p:nvSpPr>
          <p:spPr>
            <a:xfrm>
              <a:off x="798480" y="2467080"/>
              <a:ext cx="7888320" cy="1557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cognize a difference of two squares: the coefficients of variable terms are perfect squares, powers on variable terms are even, and constants are perfect squares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Text Box 7"/>
            <p:cNvSpPr/>
            <p:nvPr/>
          </p:nvSpPr>
          <p:spPr>
            <a:xfrm>
              <a:off x="900000" y="2008800"/>
              <a:ext cx="230976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04920" y="18446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41280" y="29034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4" name="Group 18"/>
          <p:cNvGrpSpPr/>
          <p:nvPr/>
        </p:nvGrpSpPr>
        <p:grpSpPr>
          <a:xfrm>
            <a:off x="2155680" y="3444840"/>
            <a:ext cx="2333880" cy="1254960"/>
            <a:chOff x="2155680" y="3444840"/>
            <a:chExt cx="2333880" cy="1254960"/>
          </a:xfrm>
        </p:grpSpPr>
        <p:sp>
          <p:nvSpPr>
            <p:cNvPr id="375" name="Text Box 11"/>
            <p:cNvSpPr/>
            <p:nvPr/>
          </p:nvSpPr>
          <p:spPr>
            <a:xfrm>
              <a:off x="2155680" y="344484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2"/>
            <p:cNvSpPr/>
            <p:nvPr/>
          </p:nvSpPr>
          <p:spPr>
            <a:xfrm>
              <a:off x="3139920" y="42400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3352680" y="3901680"/>
              <a:ext cx="763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3429000" y="3901680"/>
              <a:ext cx="6094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5"/>
          <p:cNvSpPr/>
          <p:nvPr/>
        </p:nvSpPr>
        <p:spPr>
          <a:xfrm>
            <a:off x="5112720" y="428292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3p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914400" y="504504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the difference of two squares because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a perfect squa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18288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914400" y="281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4937040" y="5105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4936680" y="464832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10x, b = 2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4937040" y="38862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7" name="Group 31"/>
          <p:cNvGrpSpPr/>
          <p:nvPr/>
        </p:nvGrpSpPr>
        <p:grpSpPr>
          <a:xfrm>
            <a:off x="1041120" y="3352680"/>
            <a:ext cx="2815560" cy="1253520"/>
            <a:chOff x="1041120" y="3352680"/>
            <a:chExt cx="2815560" cy="1253520"/>
          </a:xfrm>
        </p:grpSpPr>
        <p:sp>
          <p:nvSpPr>
            <p:cNvPr id="388" name="Line 10"/>
            <p:cNvSpPr/>
            <p:nvPr/>
          </p:nvSpPr>
          <p:spPr>
            <a:xfrm flipH="1">
              <a:off x="302580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11"/>
            <p:cNvSpPr/>
            <p:nvPr/>
          </p:nvSpPr>
          <p:spPr>
            <a:xfrm>
              <a:off x="310212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01920" y="3352680"/>
              <a:ext cx="21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1501560" y="373392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19"/>
            <p:cNvSpPr/>
            <p:nvPr/>
          </p:nvSpPr>
          <p:spPr>
            <a:xfrm>
              <a:off x="2111400" y="3733920"/>
              <a:ext cx="1522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93" name="Group 25"/>
            <p:cNvGrpSpPr/>
            <p:nvPr/>
          </p:nvGrpSpPr>
          <p:grpSpPr>
            <a:xfrm>
              <a:off x="2806920" y="4146480"/>
              <a:ext cx="1049760" cy="459720"/>
              <a:chOff x="2806920" y="4146480"/>
              <a:chExt cx="1049760" cy="459720"/>
            </a:xfrm>
          </p:grpSpPr>
          <p:sp>
            <p:nvSpPr>
              <p:cNvPr id="394" name="Text Box 9"/>
              <p:cNvSpPr/>
              <p:nvPr/>
            </p:nvSpPr>
            <p:spPr>
              <a:xfrm>
                <a:off x="2806920" y="4146480"/>
                <a:ext cx="104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   2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Text Box 23"/>
              <p:cNvSpPr/>
              <p:nvPr/>
            </p:nvSpPr>
            <p:spPr>
              <a:xfrm>
                <a:off x="3190680" y="420516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ff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6" name="Group 26"/>
            <p:cNvGrpSpPr/>
            <p:nvPr/>
          </p:nvGrpSpPr>
          <p:grpSpPr>
            <a:xfrm>
              <a:off x="1041120" y="4146480"/>
              <a:ext cx="1409400" cy="459720"/>
              <a:chOff x="1041120" y="4146480"/>
              <a:chExt cx="1409400" cy="459720"/>
            </a:xfrm>
          </p:grpSpPr>
          <p:sp>
            <p:nvSpPr>
              <p:cNvPr id="397" name="Text Box 17"/>
              <p:cNvSpPr/>
              <p:nvPr/>
            </p:nvSpPr>
            <p:spPr>
              <a:xfrm>
                <a:off x="1041120" y="4146480"/>
                <a:ext cx="140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10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  10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Text Box 24"/>
              <p:cNvSpPr/>
              <p:nvPr/>
            </p:nvSpPr>
            <p:spPr>
              <a:xfrm>
                <a:off x="1588680" y="42022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</a:t>
                </a:r>
                <a:endParaRPr b="1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99" name="Text Box 27"/>
          <p:cNvSpPr/>
          <p:nvPr/>
        </p:nvSpPr>
        <p:spPr>
          <a:xfrm>
            <a:off x="1447920" y="464832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1326960" y="5062680"/>
            <a:ext cx="29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58104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C: Recognizing and Factoring the Difference of Two Squa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80880" y="1828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8288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4937040" y="51814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4949280" y="4724280"/>
            <a:ext cx="20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x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4937040" y="396252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6002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1336320" y="525780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58104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1201320" y="3809880"/>
            <a:ext cx="2803680" cy="872280"/>
            <a:chOff x="1201320" y="3809880"/>
            <a:chExt cx="2803680" cy="872280"/>
          </a:xfrm>
        </p:grpSpPr>
        <p:sp>
          <p:nvSpPr>
            <p:cNvPr id="412" name="Line 11"/>
            <p:cNvSpPr/>
            <p:nvPr/>
          </p:nvSpPr>
          <p:spPr>
            <a:xfrm flipH="1">
              <a:off x="3025800" y="388584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3102120" y="388584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Line 14"/>
            <p:cNvSpPr/>
            <p:nvPr/>
          </p:nvSpPr>
          <p:spPr>
            <a:xfrm flipH="1">
              <a:off x="1447560" y="3809880"/>
              <a:ext cx="533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Line 15"/>
            <p:cNvSpPr/>
            <p:nvPr/>
          </p:nvSpPr>
          <p:spPr>
            <a:xfrm>
              <a:off x="1981080" y="3809880"/>
              <a:ext cx="152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54360" y="422244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5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3176640" y="42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Text Box 20"/>
            <p:cNvSpPr/>
            <p:nvPr/>
          </p:nvSpPr>
          <p:spPr>
            <a:xfrm>
              <a:off x="1201320" y="42224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Text Box 21"/>
            <p:cNvSpPr/>
            <p:nvPr/>
          </p:nvSpPr>
          <p:spPr>
            <a:xfrm>
              <a:off x="1535040" y="43002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0" name="Text Box 26"/>
          <p:cNvSpPr/>
          <p:nvPr/>
        </p:nvSpPr>
        <p:spPr>
          <a:xfrm>
            <a:off x="1814400" y="339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52280" y="16002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204480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4937040" y="51814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 polynomial as 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4936320" y="472428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4937040" y="396252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1927080" y="472428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1636560" y="5138640"/>
            <a:ext cx="22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762120" y="5943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0" name="Group 26"/>
          <p:cNvGrpSpPr/>
          <p:nvPr/>
        </p:nvGrpSpPr>
        <p:grpSpPr>
          <a:xfrm>
            <a:off x="1477800" y="3809880"/>
            <a:ext cx="2463120" cy="872280"/>
            <a:chOff x="1477800" y="3809880"/>
            <a:chExt cx="2463120" cy="872280"/>
          </a:xfrm>
        </p:grpSpPr>
        <p:sp>
          <p:nvSpPr>
            <p:cNvPr id="431" name="Line 15"/>
            <p:cNvSpPr/>
            <p:nvPr/>
          </p:nvSpPr>
          <p:spPr>
            <a:xfrm flipH="1">
              <a:off x="3025800" y="388584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Line 16"/>
            <p:cNvSpPr/>
            <p:nvPr/>
          </p:nvSpPr>
          <p:spPr>
            <a:xfrm>
              <a:off x="3102120" y="388584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Line 17"/>
            <p:cNvSpPr/>
            <p:nvPr/>
          </p:nvSpPr>
          <p:spPr>
            <a:xfrm flipH="1">
              <a:off x="1600200" y="3809880"/>
              <a:ext cx="5335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2133720" y="3809880"/>
              <a:ext cx="1522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Text Box 19"/>
            <p:cNvSpPr/>
            <p:nvPr/>
          </p:nvSpPr>
          <p:spPr>
            <a:xfrm>
              <a:off x="2878920" y="422244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3268440" y="42811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1477800" y="422244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 1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1844640" y="43002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9" name="Text Box 24"/>
          <p:cNvSpPr/>
          <p:nvPr/>
        </p:nvSpPr>
        <p:spPr>
          <a:xfrm>
            <a:off x="20574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28600" y="1676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1654200" y="27432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4762440" y="5105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polynomial a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(a + b)(a – b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4775400" y="4648320"/>
            <a:ext cx="20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p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, b =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4762440" y="38862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polynomial is a difference of two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4479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124640" y="506268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0644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9" name="Group 24"/>
          <p:cNvGrpSpPr/>
          <p:nvPr/>
        </p:nvGrpSpPr>
        <p:grpSpPr>
          <a:xfrm>
            <a:off x="1007640" y="3733920"/>
            <a:ext cx="2868840" cy="872280"/>
            <a:chOff x="1007640" y="3733920"/>
            <a:chExt cx="2868840" cy="872280"/>
          </a:xfrm>
        </p:grpSpPr>
        <p:sp>
          <p:nvSpPr>
            <p:cNvPr id="450" name="Line 15"/>
            <p:cNvSpPr/>
            <p:nvPr/>
          </p:nvSpPr>
          <p:spPr>
            <a:xfrm flipH="1">
              <a:off x="285120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>
              <a:off x="292752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17"/>
            <p:cNvSpPr/>
            <p:nvPr/>
          </p:nvSpPr>
          <p:spPr>
            <a:xfrm flipH="1">
              <a:off x="1272960" y="3733920"/>
              <a:ext cx="5331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18"/>
            <p:cNvSpPr/>
            <p:nvPr/>
          </p:nvSpPr>
          <p:spPr>
            <a:xfrm>
              <a:off x="1806480" y="3733920"/>
              <a:ext cx="152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2556000" y="4146480"/>
              <a:ext cx="132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7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   7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q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3020760" y="42051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1007640" y="4146480"/>
              <a:ext cx="101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4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1322280" y="422424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Text Box 23"/>
          <p:cNvSpPr/>
          <p:nvPr/>
        </p:nvSpPr>
        <p:spPr>
          <a:xfrm>
            <a:off x="1639800" y="33195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1241280" y="28116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2" name="Group 16"/>
          <p:cNvGrpSpPr/>
          <p:nvPr/>
        </p:nvGrpSpPr>
        <p:grpSpPr>
          <a:xfrm>
            <a:off x="1803960" y="3809880"/>
            <a:ext cx="1249560" cy="798120"/>
            <a:chOff x="1803960" y="3809880"/>
            <a:chExt cx="1249560" cy="798120"/>
          </a:xfrm>
        </p:grpSpPr>
        <p:sp>
          <p:nvSpPr>
            <p:cNvPr id="463" name="Text Box 10"/>
            <p:cNvSpPr/>
            <p:nvPr/>
          </p:nvSpPr>
          <p:spPr>
            <a:xfrm>
              <a:off x="1803960" y="4148280"/>
              <a:ext cx="12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>
              <a:off x="1996920" y="3809880"/>
              <a:ext cx="763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>
              <a:off x="2073240" y="38098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Text Box 13"/>
          <p:cNvSpPr/>
          <p:nvPr/>
        </p:nvSpPr>
        <p:spPr>
          <a:xfrm>
            <a:off x="4426560" y="411480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4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762120" y="4952880"/>
            <a:ext cx="79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the difference of two squares because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not a perfect squa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1851120" y="3352680"/>
            <a:ext cx="21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457200" y="1623240"/>
            <a:ext cx="830592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0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ence will be built around a garden with an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of (4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6)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dimens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garden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x + d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le numbers. Find an expression for th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meter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4572000" y="588204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2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6; 156 f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4341960" y="3840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0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3918960" y="321624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3683160" y="2301840"/>
            <a:ext cx="55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t a perfect-square trinomial because –40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≠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)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457200" y="2061000"/>
            <a:ext cx="80773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binomial is a difference of two squares. If so, factor. If not,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4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2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3378240" y="326232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2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3395520" y="4676760"/>
            <a:ext cx="30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(11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3073320" y="3749760"/>
            <a:ext cx="55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t a difference of two squares; 30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s not a perfect squ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838080" y="1371600"/>
            <a:ext cx="790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6560" indent="-736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rinomial is a perfect square if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a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rms are perfect squar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279440" y="2743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erm is two times one factor from the first term and one factor from the last term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2"/>
          <p:cNvSpPr/>
          <p:nvPr/>
        </p:nvSpPr>
        <p:spPr>
          <a:xfrm flipV="1" rot="10800000">
            <a:off x="2684520" y="45684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+   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12</a:t>
            </a:r>
            <a:r>
              <a:rPr b="1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+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" name="Group 25"/>
          <p:cNvGrpSpPr/>
          <p:nvPr/>
        </p:nvGrpSpPr>
        <p:grpSpPr>
          <a:xfrm>
            <a:off x="2410920" y="5028840"/>
            <a:ext cx="4451400" cy="991080"/>
            <a:chOff x="2410920" y="5028840"/>
            <a:chExt cx="4451400" cy="991080"/>
          </a:xfrm>
        </p:grpSpPr>
        <p:sp>
          <p:nvSpPr>
            <p:cNvPr id="75" name="Text Box 13"/>
            <p:cNvSpPr/>
            <p:nvPr/>
          </p:nvSpPr>
          <p:spPr>
            <a:xfrm>
              <a:off x="2410920" y="5257800"/>
              <a:ext cx="108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Text Box 14"/>
            <p:cNvSpPr/>
            <p:nvPr/>
          </p:nvSpPr>
          <p:spPr>
            <a:xfrm>
              <a:off x="3733560" y="5291280"/>
              <a:ext cx="18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5513040" y="530532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 flipH="1" flipV="1">
              <a:off x="5943240" y="5028840"/>
              <a:ext cx="2282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 flipH="1">
              <a:off x="5790960" y="5029200"/>
              <a:ext cx="151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18"/>
            <p:cNvSpPr/>
            <p:nvPr/>
          </p:nvSpPr>
          <p:spPr>
            <a:xfrm>
              <a:off x="5257440" y="5715000"/>
              <a:ext cx="380880" cy="24120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19"/>
            <p:cNvSpPr/>
            <p:nvPr/>
          </p:nvSpPr>
          <p:spPr>
            <a:xfrm>
              <a:off x="2590560" y="5029200"/>
              <a:ext cx="60912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144"/>
                  </a:moveTo>
                  <a:cubicBezTo>
                    <a:pt x="64" y="72"/>
                    <a:pt x="128" y="0"/>
                    <a:pt x="192" y="0"/>
                  </a:cubicBezTo>
                  <a:cubicBezTo>
                    <a:pt x="256" y="0"/>
                    <a:pt x="352" y="120"/>
                    <a:pt x="384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3428640" y="57150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Text Box 21"/>
            <p:cNvSpPr/>
            <p:nvPr/>
          </p:nvSpPr>
          <p:spPr>
            <a:xfrm>
              <a:off x="2840400" y="530712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5853600" y="535932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4648680" y="534996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81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43200" y="285264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860920" y="342900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6575400" y="4419720"/>
            <a:ext cx="2568600" cy="459720"/>
            <a:chOff x="6575400" y="4419720"/>
            <a:chExt cx="2568600" cy="459720"/>
          </a:xfrm>
        </p:grpSpPr>
        <p:sp>
          <p:nvSpPr>
            <p:cNvPr id="92" name="Text Box 23"/>
            <p:cNvSpPr/>
            <p:nvPr/>
          </p:nvSpPr>
          <p:spPr>
            <a:xfrm>
              <a:off x="6575400" y="4419720"/>
              <a:ext cx="25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2(3x   8) ≠  –15x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7230960" y="449280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" name="Group 43"/>
          <p:cNvGrpSpPr/>
          <p:nvPr/>
        </p:nvGrpSpPr>
        <p:grpSpPr>
          <a:xfrm>
            <a:off x="685800" y="5334120"/>
            <a:ext cx="7705800" cy="825480"/>
            <a:chOff x="685800" y="5334120"/>
            <a:chExt cx="7705800" cy="825480"/>
          </a:xfrm>
        </p:grpSpPr>
        <p:sp>
          <p:nvSpPr>
            <p:cNvPr id="95" name="Text Box 25"/>
            <p:cNvSpPr/>
            <p:nvPr/>
          </p:nvSpPr>
          <p:spPr>
            <a:xfrm>
              <a:off x="685800" y="5334120"/>
              <a:ext cx="77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4 is not a perfect-square trinomial beca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≠ 2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8)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3769200" y="5762520"/>
              <a:ext cx="2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up 41"/>
          <p:cNvGrpSpPr/>
          <p:nvPr/>
        </p:nvGrpSpPr>
        <p:grpSpPr>
          <a:xfrm>
            <a:off x="2002680" y="4343400"/>
            <a:ext cx="4321800" cy="507240"/>
            <a:chOff x="2002680" y="4343400"/>
            <a:chExt cx="4321800" cy="507240"/>
          </a:xfrm>
        </p:grpSpPr>
        <p:sp>
          <p:nvSpPr>
            <p:cNvPr id="98" name="Text Box 13"/>
            <p:cNvSpPr/>
            <p:nvPr/>
          </p:nvSpPr>
          <p:spPr>
            <a:xfrm>
              <a:off x="4975200" y="439092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2002680" y="434340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3352680" y="43768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8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Text Box 19"/>
            <p:cNvSpPr/>
            <p:nvPr/>
          </p:nvSpPr>
          <p:spPr>
            <a:xfrm>
              <a:off x="2408040" y="43927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5265720" y="444492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1"/>
            <p:cNvSpPr/>
            <p:nvPr/>
          </p:nvSpPr>
          <p:spPr>
            <a:xfrm>
              <a:off x="4187880" y="4435560"/>
              <a:ext cx="2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Wingdings"/>
                  <a:ea typeface="Wingdings"/>
                </a:rPr>
                <a:t>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42"/>
          <p:cNvGrpSpPr/>
          <p:nvPr/>
        </p:nvGrpSpPr>
        <p:grpSpPr>
          <a:xfrm>
            <a:off x="2133720" y="3809880"/>
            <a:ext cx="3352680" cy="1417320"/>
            <a:chOff x="2133720" y="3809880"/>
            <a:chExt cx="3352680" cy="1417320"/>
          </a:xfrm>
        </p:grpSpPr>
        <p:sp>
          <p:nvSpPr>
            <p:cNvPr id="105" name="Freeform 16"/>
            <p:cNvSpPr/>
            <p:nvPr/>
          </p:nvSpPr>
          <p:spPr>
            <a:xfrm rot="544200">
              <a:off x="4572000" y="4800240"/>
              <a:ext cx="60948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3048120" y="48006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35"/>
            <p:cNvSpPr/>
            <p:nvPr/>
          </p:nvSpPr>
          <p:spPr>
            <a:xfrm flipV="1">
              <a:off x="2133720" y="380988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36"/>
            <p:cNvSpPr/>
            <p:nvPr/>
          </p:nvSpPr>
          <p:spPr>
            <a:xfrm>
              <a:off x="2728800" y="3809880"/>
              <a:ext cx="1526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Line 38"/>
            <p:cNvSpPr/>
            <p:nvPr/>
          </p:nvSpPr>
          <p:spPr>
            <a:xfrm>
              <a:off x="5029200" y="3809880"/>
              <a:ext cx="457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39"/>
            <p:cNvSpPr/>
            <p:nvPr/>
          </p:nvSpPr>
          <p:spPr>
            <a:xfrm>
              <a:off x="5029200" y="38098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10520" y="2851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2122920" y="34290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5486400" y="441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a perfect square. Facto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41"/>
          <p:cNvGrpSpPr/>
          <p:nvPr/>
        </p:nvGrpSpPr>
        <p:grpSpPr>
          <a:xfrm>
            <a:off x="1240560" y="3873600"/>
            <a:ext cx="4403160" cy="1353600"/>
            <a:chOff x="1240560" y="3873600"/>
            <a:chExt cx="4403160" cy="1353600"/>
          </a:xfrm>
        </p:grpSpPr>
        <p:sp>
          <p:nvSpPr>
            <p:cNvPr id="117" name="Text Box 12"/>
            <p:cNvSpPr/>
            <p:nvPr/>
          </p:nvSpPr>
          <p:spPr>
            <a:xfrm>
              <a:off x="4294080" y="443376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240560" y="4386240"/>
              <a:ext cx="106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689200" y="4419720"/>
              <a:ext cx="180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(9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)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8"/>
            <p:cNvSpPr/>
            <p:nvPr/>
          </p:nvSpPr>
          <p:spPr>
            <a:xfrm>
              <a:off x="1608120" y="44355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 Box 19"/>
            <p:cNvSpPr/>
            <p:nvPr/>
          </p:nvSpPr>
          <p:spPr>
            <a:xfrm>
              <a:off x="4549680" y="448776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20"/>
            <p:cNvSpPr/>
            <p:nvPr/>
          </p:nvSpPr>
          <p:spPr>
            <a:xfrm>
              <a:off x="3477960" y="447840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Verdana"/>
                </a:rPr>
                <a:t>●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 rot="544200">
              <a:off x="3914640" y="4800240"/>
              <a:ext cx="609840" cy="380880"/>
            </a:xfrm>
            <a:custGeom>
              <a:avLst/>
              <a:gdLst/>
              <a:ahLst/>
              <a:rect l="l" t="t" r="r" b="b"/>
              <a:pathLst>
                <a:path w="240" h="152">
                  <a:moveTo>
                    <a:pt x="240" y="0"/>
                  </a:moveTo>
                  <a:cubicBezTo>
                    <a:pt x="212" y="68"/>
                    <a:pt x="184" y="136"/>
                    <a:pt x="144" y="144"/>
                  </a:cubicBezTo>
                  <a:cubicBezTo>
                    <a:pt x="104" y="152"/>
                    <a:pt x="24" y="64"/>
                    <a:pt x="0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2209680" y="4876920"/>
              <a:ext cx="83844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cubicBezTo>
                    <a:pt x="28" y="96"/>
                    <a:pt x="56" y="192"/>
                    <a:pt x="144" y="192"/>
                  </a:cubicBezTo>
                  <a:cubicBezTo>
                    <a:pt x="232" y="192"/>
                    <a:pt x="380" y="9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V="1">
              <a:off x="1371600" y="3886200"/>
              <a:ext cx="6094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1967040" y="3886200"/>
              <a:ext cx="152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" name="Group 35"/>
            <p:cNvGrpSpPr/>
            <p:nvPr/>
          </p:nvGrpSpPr>
          <p:grpSpPr>
            <a:xfrm>
              <a:off x="4448160" y="3873600"/>
              <a:ext cx="457200" cy="533160"/>
              <a:chOff x="4448160" y="3873600"/>
              <a:chExt cx="457200" cy="533160"/>
            </a:xfrm>
          </p:grpSpPr>
          <p:sp>
            <p:nvSpPr>
              <p:cNvPr id="128" name="Line 33"/>
              <p:cNvSpPr/>
              <p:nvPr/>
            </p:nvSpPr>
            <p:spPr>
              <a:xfrm>
                <a:off x="4448160" y="3873600"/>
                <a:ext cx="457200" cy="41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34"/>
              <p:cNvSpPr/>
              <p:nvPr/>
            </p:nvSpPr>
            <p:spPr>
              <a:xfrm>
                <a:off x="4448160" y="38736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8440" y="98964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856080" y="28116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rul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1778400" y="33526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5209200" y="335268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 = 9x, b =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4"/>
          <p:cNvSpPr/>
          <p:nvPr/>
        </p:nvSpPr>
        <p:spPr>
          <a:xfrm>
            <a:off x="1295280" y="3886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9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)(5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2505240" y="487692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5210280" y="39020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a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+ 2ab + 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521028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trinomial as (a + b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8440" y="989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Recognizing and Factoring Perfect-Square Trinomi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9960" y="19051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trinomial is a perfect square. If so, factor. If not explai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65160" y="2852640"/>
            <a:ext cx="23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952880" y="35053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rinomial is not a perfect-square because 14 is not a perfect squar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936080" y="34290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33520" y="5181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4 is not a perfect-square trinom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Smith</cp:lastModifiedBy>
  <dcterms:modified xsi:type="dcterms:W3CDTF">2013-05-20T11:49:28Z</dcterms:modified>
  <cp:revision>109</cp:revision>
  <dc:subject/>
  <dc:title>Slide 1</dc:title>
</cp:coreProperties>
</file>